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BE27-A356-44F3-B9E9-3B0B6EBDE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manager defines a hierarchical system and session-wide namespace for all objects exported by the operating system. This is explained in detail on slide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5898-A6AD-48B3-947A-C222728468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03ED-CFC1-4334-859D-468B1E00BD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BC6B-3E5F-47CE-9068-020E96F663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26A8-4238-48C2-AB35-1900C3963B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90680" y="923760"/>
            <a:ext cx="4078080" cy="3059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579-6450-4B8B-93F0-47B483D995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3AC-6D85-42DE-B5C8-ADA1266C31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Windows provides several base mechanisms that kernel-mode components such as  the executive, the kernel, and device drivers use.  This  Section  gives an architectural overview, discusses the program execution environment and explains  basic system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Over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Executio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Mode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Processes /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9B4-FDBA-4D97-96C1-42BA1615A0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DFE3-21C1-4424-928A-C12AEEEE3F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837-B7B1-4993-95F6-6DE6EA19D6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8B0-1228-4EB0-AA96-51B44A4049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9DB7-5938-4364-AA50-56E8CA5B2F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B600-71AB-4D1F-9B0A-C082BA55A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7B93-B63E-41A5-B914-7AA123560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FF7C-DAD4-478B-B164-0D4F31CFF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FD19-6E1A-4EAA-A6D3-E3B110275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7BF7-A1CC-419D-93A9-279E21C22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9DB8-909C-403C-897F-F04E3E2A7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7D54-8091-48F2-B27E-850720D42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751D-F6D7-4BAE-BE43-8626A7366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58B2-39F0-4BF7-8B73-AC9924676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0F7F-9420-426E-ACA7-19A3DF3AF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F4B9-479A-4716-97AE-94D2F0A58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755B-DB07-4391-84B2-43E0DA689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6A9C-9084-4256-B142-BB68BBDEF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1E6B-395E-4137-9140-5EDA83A10024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2: </a:t>
            </a:r>
            <a:br>
              <a:rPr sz="36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perating System Principl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2320" y="4006800"/>
            <a:ext cx="7418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ore System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1371600"/>
          <a:ext cx="8077320" cy="542124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direc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iner object for other objects: implement hierarchical namespace to store other object ty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ic l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referring to an object name indirec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tual address space and control information necessary for execution of thread ob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cutable entity within a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 of shared memory (file mapping object in Windows AP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ance of an opened file or I/O de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pass messages betwee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k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 profile (security ID, user rights) of a process or th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1EB4-EDD1-4E27-BBF5-CFBE9B6C25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990720"/>
          <a:ext cx="8077320" cy="586260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with  persistent state (signaled or not) usable for synchronization or not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aph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er and resource gate for critical s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a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chronization construct to serialize resource a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notify a thread when a fixed period of time elap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for threads to enqueue/dequeue notifications of I/O completions (Windows I/O completion p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 to registry data – visible in object manager namesp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measuring execution time for a process within an address 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B546-4233-4C80-AD48-F370FBB137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88280" y="227016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96920" y="434340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7432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hea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724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2860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432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32004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7760" y="4114800"/>
            <a:ext cx="2212200" cy="2040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Type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Access ty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ynchroniz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Page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, close, delete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parse, security,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query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8280" y="5562720"/>
            <a:ext cx="49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 contains static, object-type specific data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shared among all instances of an object type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link all instances together (enum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5680" y="37940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6880" y="242244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25520" y="449568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29640" y="257508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648320"/>
            <a:ext cx="1905120" cy="7617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1120" y="2895480"/>
            <a:ext cx="129528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4419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572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09" idx="0"/>
            <a:endCxn id="220" idx="0"/>
          </p:cNvCxnSpPr>
          <p:nvPr/>
        </p:nvCxnSpPr>
        <p:spPr>
          <a:xfrm flipH="1" rot="16200000">
            <a:off x="2974680" y="2230920"/>
            <a:ext cx="153000" cy="2293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0"/>
            <a:endCxn id="222" idx="0"/>
          </p:cNvCxnSpPr>
          <p:nvPr/>
        </p:nvCxnSpPr>
        <p:spPr>
          <a:xfrm flipH="1" rot="16200000">
            <a:off x="3195360" y="2392200"/>
            <a:ext cx="153360" cy="21348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9" idx="2"/>
            <a:endCxn id="209" idx="0"/>
          </p:cNvCxnSpPr>
          <p:nvPr/>
        </p:nvCxnSpPr>
        <p:spPr>
          <a:xfrm flipV="1" rot="16200000">
            <a:off x="3543840" y="1662120"/>
            <a:ext cx="1861200" cy="3075840"/>
          </a:xfrm>
          <a:prstGeom prst="curvedConnector5">
            <a:avLst>
              <a:gd name="adj1" fmla="val -12284"/>
              <a:gd name="adj2" fmla="val 22240"/>
              <a:gd name="adj3" fmla="val -1228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DE78-5107-4546-84E5-1A2D9CD461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etho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opens handle to object \Device\Floppy0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manager traverses name tree until it reaches Floppy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ls parse method for object Floppy0 with arg 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1189080"/>
          <a:ext cx="815328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662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method is ca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open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clo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the object manager deletes an obj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 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thread requests the name of an object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the object manager is searching for an object name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process reads/changes protection of an objects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1960" y="4343400"/>
            <a:ext cx="102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Exampl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91C3-B04D-4086-8CFA-80E2D41821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55640" y="2050920"/>
            <a:ext cx="5904000" cy="4807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stem and session-wide internal namespace for all objects exported by the operating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w with Winobj from www.sysinternals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0B15-BAC4-4ACC-BF7D-AFAEFE7C261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esting Object Directori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Object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that define types of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BaseNamed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will appear when Windows programs use CreateEven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 (Windows mute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ue (Windows I/O completion 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(Windows file mapping obj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aph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GLOBAL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device name mappings for console s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5FF3-8EFD-4314-B104-A9AA76C0814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erarchical directory structure (based on file system mod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-wide (not per-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Terminal Services, Windows objects are per-session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verride this with “global\” prefix on object n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atile (not preserved across boo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of Server 2003, requires SeCreateGlobalPrivile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 can be extended by secondary object managers (e.g. file syst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ok mechanism to call external parse routine (metho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case sensitive or case bli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symbolic links (used to implement drive letter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up done on object creation or access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on access by hand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ll objects managed by the object manager are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file objects are not nam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-named objects are not visible in WinOb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981080"/>
            <a:ext cx="8305920" cy="533520"/>
          </a:xfrm>
          <a:prstGeom prst="roundRect">
            <a:avLst>
              <a:gd name="adj" fmla="val 29167"/>
            </a:avLst>
          </a:prstGeom>
          <a:noFill/>
          <a:ln w="2844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28AC-26CA-458C-85B8-DBB8C0E6CD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 initial size and upper limit (can be grown dynamically, up to the 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256 MB on x86 (NT4: 128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-bit: 128 G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counter displays current total size (allocated + fre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kernel variable MmMaximumNon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 650MB (Windows Server 2003), 470MB (Windows 2000), 192MB (Windows NT 4.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4-bit: 128 G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MmSizeOf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l size performance counters display current size, not 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isplay maximums, use “!vm” kernel debugger comm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27B9-3018-4DC0-9464-35DF13B9BBF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voking Kernel-Mode Routin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is run in kernel mode for one of three 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from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the system service dispatch mechan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-mode code runs in the context of the requesting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s from external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rupts (like all traps) are handled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-supplied interrupt dispatcher invokes the interrupt service rout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runs in the context of the interrupted thread (so-called “arbitrary thread context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often requests the execution of a “DPC routine”, which also runs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dicated kernel-mode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threads in the system stay in kernel mode at all times (mostly in the “System”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eduled, preempted, etc., like any other 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C2D4-6170-4F1E-9F9B-AAFD665CBA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ccounting for Kernel-Mode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31795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total busy time of processor (equal to elapsed real time - idle 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“User Time” + “Privileged Ti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= time spent in kernel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inclu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rup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P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kernel-mode time (no separate counter for thi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rcRect l="0" t="0" r="12988" b="0"/>
          <a:stretch/>
        </p:blipFill>
        <p:spPr>
          <a:xfrm>
            <a:off x="3330720" y="990720"/>
            <a:ext cx="5743440" cy="5049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012280" y="5943600"/>
            <a:ext cx="3999600" cy="73188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 Programs |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ministrative Tools | Performance 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“+” button, or select Edit | Add to chart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08B5-884B-4D7E-9007-60ABEA34BE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817F-2581-4DFB-983E-CBB16B1A7C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provides two system memory p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” and “Paged Poo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for systemwide persistent data (visible from any process cont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 required for memory accessed from DPC/dispatch IRQL or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 faults at DPC/dispatch IRQL or above cause a system cr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l sizes are a function of memory size &amp; Server vs.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overidden in Regist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LM\System\CurrentControlSet\Control\Sessio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\Memor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are limited by implementation limits (next s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B323-FDE0-4B89-875E-36A9AF66F2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okaside Lis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ead of frequently allocating and freeing poo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lookaside lists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s a driver private list of preallocated blocks of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ines automatically extend the lookaside list from the systemwide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s hitting systemwide pool spinlock for every allocation/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s CPU/memory cache behavior (the same driver will use the same list items over and o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nitializ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llocateFrom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FreeTo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Delet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7399-7AA4-4E15-874A-1D8AFE7EB5C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System Memory Limi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1360" y="1693440"/>
            <a:ext cx="8155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system memory limits raised in XP &amp; Server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2000 limit of 200 GB of mapped file data elimin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ously limited size of files that could be backed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System Page Table Entries (PTEs)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now describe 1.3 GB of system space (96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2000 limit was 660 MB (22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number of users on Terminal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means maximum device driver size is now 960 MB (was 220 M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C6CC-EA24-484D-9350-6E3AB88EC9C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Procedure Calls (LPC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C – high-speed message 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vailable through Windows API –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S in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scenar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PCs on the same machine are implemented as LP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Windows APIs result in sending messages to Windows subsyst. pr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Logon uses LPC to communicate with local security authentication server process (LSA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reference monitor uses LPC to communicate with 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messages &lt; 256 bytes are copied from sender to 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r messages are exchanged via shared memory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(kernel) may write directly in client‘s address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77B3-692B-405A-9661-938FD0D82AD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ort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exports port objects to maintain state of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nnec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named port, server connection request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, one per active client, used fo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a particular client thread uses to communicate with a particular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named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created for use by two threads in the sam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ical scenar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creates named connection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makes connection re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unnamed ports are created, client gets handle to server por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gets handle to clien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7886-96E4-4AE2-B744-62536D434DC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e of LPC por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5120" y="19810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lient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95480" y="199692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14520" y="19969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rver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5040" y="2938320"/>
            <a:ext cx="90468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Message</a:t>
            </a:r>
            <a:br>
              <a:rPr sz="16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7040" y="260676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nnection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9240" y="3139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416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504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2592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8080" y="30639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lient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9200" y="31399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erver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58320" y="3444840"/>
            <a:ext cx="1113840" cy="1798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rve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5800" y="3368520"/>
            <a:ext cx="1043280" cy="1798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Client 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 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11520" y="4359240"/>
            <a:ext cx="533520" cy="152280"/>
            <a:chOff x="4511520" y="4359240"/>
            <a:chExt cx="533520" cy="152280"/>
          </a:xfrm>
        </p:grpSpPr>
        <p:sp>
          <p:nvSpPr>
            <p:cNvPr id="276" name=""/>
            <p:cNvSpPr/>
            <p:nvPr/>
          </p:nvSpPr>
          <p:spPr>
            <a:xfrm>
              <a:off x="4511520" y="435924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11520" y="45115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996920" y="4587480"/>
            <a:ext cx="5257800" cy="1130040"/>
            <a:chOff x="1996920" y="4587480"/>
            <a:chExt cx="5257800" cy="1130040"/>
          </a:xfrm>
        </p:grpSpPr>
        <p:sp>
          <p:nvSpPr>
            <p:cNvPr id="279" name=""/>
            <p:cNvSpPr/>
            <p:nvPr/>
          </p:nvSpPr>
          <p:spPr>
            <a:xfrm>
              <a:off x="3978360" y="5197320"/>
              <a:ext cx="1676160" cy="520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hared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996920" y="4587480"/>
              <a:ext cx="19814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073240" y="4739760"/>
              <a:ext cx="190512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654520" y="4740120"/>
              <a:ext cx="16002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4520" y="4892760"/>
              <a:ext cx="1600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920600" y="3063600"/>
            <a:ext cx="2459520" cy="1751040"/>
            <a:chOff x="1920600" y="3063600"/>
            <a:chExt cx="2459520" cy="1751040"/>
          </a:xfrm>
        </p:grpSpPr>
        <p:sp>
          <p:nvSpPr>
            <p:cNvPr id="285" name=""/>
            <p:cNvSpPr/>
            <p:nvPr/>
          </p:nvSpPr>
          <p:spPr>
            <a:xfrm>
              <a:off x="299988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lient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920600" y="4206600"/>
              <a:ext cx="9903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987640" y="306360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7640" y="3063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9560" y="3292200"/>
            <a:ext cx="4267800" cy="1522440"/>
            <a:chOff x="3139560" y="3292200"/>
            <a:chExt cx="4267800" cy="1522440"/>
          </a:xfrm>
        </p:grpSpPr>
        <p:sp>
          <p:nvSpPr>
            <p:cNvPr id="290" name=""/>
            <p:cNvSpPr/>
            <p:nvPr/>
          </p:nvSpPr>
          <p:spPr>
            <a:xfrm>
              <a:off x="513360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rver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68920" y="4206960"/>
              <a:ext cx="8384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188040" y="3825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9560" y="382572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139920" y="32922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9920" y="32925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359240" y="3292560"/>
            <a:ext cx="30481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25E9-DBE5-4723-8CFF-F5D8DF6A3DCD}" type="slidenum">
              <a:t>25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s are conditions that result  directly from the execution of the program that i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introduced a facility  known as structured exception handling, which allows applications to gain control when excep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 can then fix the condition and return to the place the exception occurre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wind the stack (thus terminating execution of the subroutine that raised the  exception),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e back to the system that the exception isn’t recognized and the system should continue searching for an exception handler that might process the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CB7D-6A35-4EEE-A82E-51D7DEBF45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d exception handli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cessible from MS VC++ language: __try, __except, __fin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 Richter, „Advanced Windows“, MS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on M.Hart, „Win32 System Programming“, Addison-Wes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8040" y="3352680"/>
            <a:ext cx="775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rap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6800" y="3657600"/>
            <a:ext cx="1064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spatch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352680"/>
            <a:ext cx="152388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first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809880"/>
            <a:ext cx="152424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-based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267080"/>
            <a:ext cx="15750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second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7242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nm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Kernel defaul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380988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2400" y="3505320"/>
            <a:ext cx="1154520" cy="73332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, cli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hread 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91320" y="3580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3581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9280" y="32608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9880" y="4572000"/>
            <a:ext cx="567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nhandled exceptions are passed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ext hand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 dispatcher sends debug message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bugger via LPC/excepion port &amp; session manager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39625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96252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3962520"/>
            <a:ext cx="1295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69080" y="443556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4952880"/>
            <a:ext cx="152280" cy="15264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7320" y="312408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PC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bugger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3657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5F73-F6E0-4769-8E2E-906AB75930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nal Windows API exception handl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es unhandled exce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top of stack, declared in StartOfProcess()/StartOfThread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id Win32StartOfProcess(LPTHREAD_START_ROUTINE lpStartAddr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PVOID lpvThreadParm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tr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WORD dwThreadExitCode = lpStartAddr(lpvThreadPar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Thread(dwThreadExitCod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except(UnhandledExceptionFilter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ExceptionInformation())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Process(GetExceptionCod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8962-2F8E-47AF-B2E2-33FE8758286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E. Russinovich and David A. Solomon, Microsoft Windows Internals, 4th Edition, Microsoft Press, 200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(from pp. 1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Worker Threads (from pp. 16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Procedure Calls (LPCs) (from pp. 1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 Dispatching (from pp. 1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4A9C-8B14-4331-81F5-A87699CB0D5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2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anager &amp; Ha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Procedur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8240" y="566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B730-87EC-4D8E-B1FB-5748EBA88CB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ob – Objec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handle.c – handl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pool.c, \base\ntos\inc\pool.h – Kernel memory pools (nonpaged, pag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see \base\ntos\mm\allocpag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lpc – Local Procedur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n.c, trap.asm in \base\ntos\ke\i386, \base\ntos\ke\amd64 – Exception Disp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C9E6-4FDC-482D-906A-FC7CA9B067A9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s and Hand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Windows APIs take arguments that a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ystem-defined data structures, or “objec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calls CreateXxx, which creates an object and returns a handle to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then uses the handle value in API calls that operate on tha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e types of Windows objects (and therefore handle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kernel objects” (events, mutexes, files, processes, thread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 “Object Manager”, and represent data structures in system address sp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private to each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GDI objects” (pens, brushes, font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User objects” (windows, menu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35EE-C05D-4968-9D11-2EE28AB097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 and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unique for each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is in system address space, hence cannot be modified from 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ce, is tr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checks are made when handle table entry is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.e. at CreateXxx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table entry indicates the “validated” access rights to th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, Write, Delete, Terminat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Is that take an “already-opened” handle look in the handle table entry before performing th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xample: TerminateProcess checks to see if the handle was opened for Terminate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eed to check file ACL, process or thread access token, etc., on every write request---checking is done at file handle creation, i.e. “file open”,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314A-F4EF-4F26-9CEF-B4D3B7687B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800600" y="1676520"/>
            <a:ext cx="1904760" cy="1136520"/>
            <a:chOff x="4800600" y="1676520"/>
            <a:chExt cx="1904760" cy="1136520"/>
          </a:xfrm>
        </p:grpSpPr>
        <p:sp>
          <p:nvSpPr>
            <p:cNvPr id="98" name=""/>
            <p:cNvSpPr/>
            <p:nvPr/>
          </p:nvSpPr>
          <p:spPr>
            <a:xfrm>
              <a:off x="4800600" y="20383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3960" y="16765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02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11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15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40800" y="129528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02160" y="2057400"/>
            <a:ext cx="1116000" cy="1074600"/>
            <a:chOff x="3602160" y="2057400"/>
            <a:chExt cx="1116000" cy="1074600"/>
          </a:xfrm>
        </p:grpSpPr>
        <p:sp>
          <p:nvSpPr>
            <p:cNvPr id="131" name=""/>
            <p:cNvSpPr/>
            <p:nvPr/>
          </p:nvSpPr>
          <p:spPr>
            <a:xfrm>
              <a:off x="3676680" y="2057400"/>
              <a:ext cx="1041480" cy="103968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6240" y="3046320"/>
            <a:ext cx="430056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o a kernel object is an index into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ndle table, and hence is invalid in any other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able entry contains the system-space address (8xxxxxxx or above) of the data structure; this address is the same regardless of process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hough handle table is per-process, it is actually in system address space (hence protec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7379-6414-409B-B7A6-F35FC43530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00600" y="2133720"/>
            <a:ext cx="1904760" cy="1136520"/>
            <a:chOff x="4800600" y="2133720"/>
            <a:chExt cx="1904760" cy="1136520"/>
          </a:xfrm>
        </p:grpSpPr>
        <p:sp>
          <p:nvSpPr>
            <p:cNvPr id="136" name=""/>
            <p:cNvSpPr/>
            <p:nvPr/>
          </p:nvSpPr>
          <p:spPr>
            <a:xfrm>
              <a:off x="4800600" y="24955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3960" y="21337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Reference Coun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40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49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53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40800" y="150660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602160" y="2576520"/>
            <a:ext cx="1116000" cy="555480"/>
            <a:chOff x="3602160" y="2576520"/>
            <a:chExt cx="1116000" cy="555480"/>
          </a:xfrm>
        </p:grpSpPr>
        <p:sp>
          <p:nvSpPr>
            <p:cNvPr id="169" name=""/>
            <p:cNvSpPr/>
            <p:nvPr/>
          </p:nvSpPr>
          <p:spPr>
            <a:xfrm>
              <a:off x="3676680" y="2576520"/>
              <a:ext cx="1041480" cy="52056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6840" y="2133720"/>
            <a:ext cx="6338520" cy="3900240"/>
            <a:chOff x="366840" y="2133720"/>
            <a:chExt cx="6338520" cy="3900240"/>
          </a:xfrm>
        </p:grpSpPr>
        <p:grpSp>
          <p:nvGrpSpPr>
            <p:cNvPr id="172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73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6840" y="2819520"/>
              <a:ext cx="4357440" cy="3214440"/>
              <a:chOff x="366840" y="2819520"/>
              <a:chExt cx="4357440" cy="3214440"/>
            </a:xfrm>
          </p:grpSpPr>
          <p:sp>
            <p:nvSpPr>
              <p:cNvPr id="176" name=""/>
              <p:cNvSpPr/>
              <p:nvPr/>
            </p:nvSpPr>
            <p:spPr>
              <a:xfrm>
                <a:off x="366840" y="4803840"/>
                <a:ext cx="679320" cy="1634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6320" y="4989600"/>
                <a:ext cx="1528920" cy="995400"/>
              </a:xfrm>
              <a:custGeom>
                <a:avLst/>
                <a:gdLst/>
                <a:ahLst/>
                <a:rect l="l" t="t" r="r" b="b"/>
                <a:pathLst>
                  <a:path w="963" h="627">
                    <a:moveTo>
                      <a:pt x="0" y="0"/>
                    </a:moveTo>
                    <a:lnTo>
                      <a:pt x="0" y="626"/>
                    </a:lnTo>
                    <a:lnTo>
                      <a:pt x="962" y="62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608280" y="2819520"/>
                <a:ext cx="1116000" cy="3214440"/>
                <a:chOff x="3608280" y="2819520"/>
                <a:chExt cx="1116000" cy="3214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683160" y="2819520"/>
                  <a:ext cx="1041120" cy="3179520"/>
                </a:xfrm>
                <a:custGeom>
                  <a:avLst/>
                  <a:gdLst/>
                  <a:ahLst/>
                  <a:rect l="l" t="t" r="r" b="b"/>
                  <a:pathLst>
                    <a:path w="656" h="527">
                      <a:moveTo>
                        <a:pt x="0" y="526"/>
                      </a:moveTo>
                      <a:lnTo>
                        <a:pt x="440" y="524"/>
                      </a:lnTo>
                      <a:lnTo>
                        <a:pt x="440" y="0"/>
                      </a:lnTo>
                      <a:lnTo>
                        <a:pt x="655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8280" y="5951520"/>
                  <a:ext cx="82800" cy="82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"/>
          <p:cNvGrpSpPr/>
          <p:nvPr/>
        </p:nvGrpSpPr>
        <p:grpSpPr>
          <a:xfrm>
            <a:off x="77400" y="1575000"/>
            <a:ext cx="6627960" cy="3962160"/>
            <a:chOff x="77400" y="1575000"/>
            <a:chExt cx="6627960" cy="3962160"/>
          </a:xfrm>
        </p:grpSpPr>
        <p:sp>
          <p:nvSpPr>
            <p:cNvPr id="182" name=""/>
            <p:cNvSpPr/>
            <p:nvPr/>
          </p:nvSpPr>
          <p:spPr>
            <a:xfrm>
              <a:off x="1281240" y="4795920"/>
              <a:ext cx="679320" cy="16344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8120" y="5010120"/>
              <a:ext cx="636480" cy="512640"/>
            </a:xfrm>
            <a:custGeom>
              <a:avLst/>
              <a:gdLst/>
              <a:ahLst/>
              <a:rect l="l" t="t" r="r" b="b"/>
              <a:pathLst>
                <a:path w="401" h="323">
                  <a:moveTo>
                    <a:pt x="0" y="0"/>
                  </a:moveTo>
                  <a:lnTo>
                    <a:pt x="0" y="322"/>
                  </a:lnTo>
                  <a:lnTo>
                    <a:pt x="400" y="32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602160" y="2676600"/>
              <a:ext cx="942840" cy="2860560"/>
              <a:chOff x="3602160" y="2676600"/>
              <a:chExt cx="942840" cy="28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3676680" y="2676600"/>
                <a:ext cx="868320" cy="2825640"/>
              </a:xfrm>
              <a:custGeom>
                <a:avLst/>
                <a:gdLst/>
                <a:ahLst/>
                <a:rect l="l" t="t" r="r" b="b"/>
                <a:pathLst>
                  <a:path w="547" h="1780">
                    <a:moveTo>
                      <a:pt x="0" y="1779"/>
                    </a:moveTo>
                    <a:lnTo>
                      <a:pt x="365" y="1779"/>
                    </a:lnTo>
                    <a:lnTo>
                      <a:pt x="365" y="0"/>
                    </a:lnTo>
                    <a:lnTo>
                      <a:pt x="54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02160" y="54547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90720" y="1575000"/>
              <a:ext cx="2590200" cy="38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3" y="17725"/>
                  </a:moveTo>
                  <a:arcTo wR="10800" hR="10800" stAng="8406937" swAng="47336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3" y="17725"/>
                  </a:moveTo>
                  <a:arcTo wR="10800" hR="10800" stAng="8406937" swAng="473366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00" y="3657600"/>
              <a:ext cx="2013840" cy="335880"/>
            </a:xfrm>
            <a:prstGeom prst="rect">
              <a:avLst/>
            </a:prstGeom>
            <a:solidFill>
              <a:srgbClr val="004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DuplicateHand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00600" y="2133720"/>
            <a:ext cx="3886200" cy="4416120"/>
            <a:chOff x="4800600" y="2133720"/>
            <a:chExt cx="3886200" cy="4416120"/>
          </a:xfrm>
        </p:grpSpPr>
        <p:grpSp>
          <p:nvGrpSpPr>
            <p:cNvPr id="194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5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486400" y="3657600"/>
              <a:ext cx="1676520" cy="16002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r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in a wait st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 the eve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4160" y="373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  <a:endCxn id="192" idx="6"/>
            </p:cNvCxnSpPr>
            <p:nvPr/>
          </p:nvCxnSpPr>
          <p:spPr>
            <a:xfrm flipH="1" flipV="1">
              <a:off x="6780960" y="2555640"/>
              <a:ext cx="305640" cy="1219680"/>
            </a:xfrm>
            <a:prstGeom prst="bentConnector3">
              <a:avLst>
                <a:gd name="adj1" fmla="val -75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5029200" y="5529240"/>
              <a:ext cx="365760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e: there is actually another data structure, a “wait block”, “between” the thread and the object it’s waiting f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AEE9-1844-472E-942B-8C3473FF6C61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component for managing system-defined “objec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are data structures with optional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” managed here include Windows Kernel objects, but not Windows User or GDI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manager implements user-mode handles and the 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is not used for all Windows data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, only those types that need to be shared, named, or exported to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ata structures are called “objects” but are not managed by the object manager (e.g. “DPC object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5B03-3358-452D-99FE-2D0B82B95F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rt, a heap manager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s memory for data structure from system-wide, kernel space heap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geable or nonpage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few extra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s name to data structure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lookup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can be protected by ACL-base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uniform naming, sharing, and protection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ifies C2 security certification by centralizing all object protection in one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s counts of handles and references (stored pointers in kernel space) to each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cannot be freed back to the heap until all handles and references are g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BC77-20B6-4BC2-8BA4-B8EBC21AC6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0:50:23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7:53Z</dcterms:modified>
  <cp:revision>33</cp:revision>
  <dc:subject>Windows Operating Systems Internals Course</dc:subject>
  <dc:title>Unit OS2: Windows Core System Mechanisms</dc:title>
</cp:coreProperties>
</file>